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390-5E2C-459D-BB50-993337F6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8EE-6251-4724-B0A6-1E9F2A99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C5A-6762-465A-A262-29753512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0D3-8E0F-4A41-9046-C3072BC3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015-8181-4228-9FA6-128668D5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3CB-1CA3-427E-8159-8B3A9D60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28B-DAA0-4662-A22D-CED04B9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3B5-CBB4-4249-8AE4-857BED7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8A1-DDDD-4330-90CD-426AF82C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B0C-2187-4444-AA11-7A18DA3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22E-590F-49C5-91CC-9A45CFF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A77-30AE-43DE-A881-6994056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BB60-ABDC-469D-8370-E7C9DEC33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56:40Z</dcterms:created>
  <dc:creator>Grupo Editorial</dc:creator>
  <dc:description/>
  <dc:language>en-US</dc:language>
  <cp:lastModifiedBy>Grupo Editorial</cp:lastModifiedBy>
  <dcterms:modified xsi:type="dcterms:W3CDTF">2001-11-20T16:00:45Z</dcterms:modified>
  <cp:revision>1</cp:revision>
  <dc:subject/>
  <dc:title>Sin título de diapositiva</dc:title>
</cp:coreProperties>
</file>